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2D4B-679B-4D72-B778-503A01D83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7A44-1950-4469-A019-C5D094C1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3EFE-4702-4441-A4C8-8B40967FD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9674-9A48-414F-8885-9E78CC857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8B308-C3EE-4F63-9BBB-6DEBD5409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BE07E-EE49-4CE0-874D-1F27B5C79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B9B08-F097-4A74-83B9-33CDBBBC0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CF573-AF76-47E7-818B-EBCE58BB0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ACCE8-3D73-47B2-99A3-A0E51EB7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6F253-2A45-4368-AD78-40F9DEAE2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BFBE5-9544-4476-AF70-A48AF366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D4A0-9415-418E-9A7F-58BC5A61F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E88A3-A392-4028-8871-DB700E96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468DD-25D6-4F09-8B21-BECCD5D4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57CDC-D57E-4463-BB52-37AD76D17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CA382-1254-4F5B-9DAE-551DA0AA1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53E87-82BE-4AEB-B1A2-77D1DEB7C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D2473-861D-441C-8115-689F742FD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EF0F0-65F5-4BF7-85B5-3510B0CBC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20358-9779-45B3-A25F-E002FA6DA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84E4B-F71C-4D0B-967D-E657D6A65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9B41E-AFE2-4CAB-86F0-1F12EE2CA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EDF6-2829-4146-84DD-A63A5A0D5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B350F-D4FC-41AC-AF53-935A0188B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92854-456B-42ED-B73C-6D8C6DC5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C5ADA-2AFF-427B-901B-2A16D6E0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F447D-933A-4F9C-BB64-DCC75A8D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6D285-C48E-4E54-9268-45308DFFF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2BBC3-44AA-4BEB-AAE4-EE0590A0F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852F8-606E-4F04-B39B-0C2251978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32311-0A23-468F-AE32-CBBD68688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9D2B1-B09C-469A-B619-0722757E2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7C427-B444-4A5A-B4B6-00341B267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27BB-805B-4D66-B981-CF8967063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D8BCE-5267-444E-9900-EC7A3E11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9AE66-A9B7-4C41-A9F2-28E46A7B9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85E75-1762-421F-86B3-330B6051B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E8665-6B8F-403F-8C0B-7CDED128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6659E-630B-422B-8DBD-A2346E0D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E1B0A-B8E5-4DA5-9CCE-245E7A60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6A9D3-EF14-4A98-847F-6FD95CEF2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E85D2-F609-400E-8CA7-F010EC8D6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80B87-CE69-4BD8-9C54-5BF718232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748BD-8BE8-4EA7-9FD6-D75BF09E8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5B25-CAE1-4F18-ABF3-2B3934CD0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540F9-866B-4F07-A08D-D9B9CBCF1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64048-040F-4E46-9CFC-EFDFB5A53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3E004-39D2-4D33-8F0F-F02F7DB90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3F3BE-98F9-4B25-91B4-67DEC2DCB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20C1F-44BA-4904-9CC6-706293182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B2F05-DDF8-4946-BBB6-51DAC57A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71A6C-DF87-4066-8989-94F079CF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CDDCA-33E2-4ACA-9E40-5DBE9BFE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6A340-7689-4FE4-9E8F-93AFF589E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65F31-8839-4187-BF09-AB4EFDFAC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82C5-9A57-4CBD-AAA9-DA9983160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C87A2-08A4-4DEC-B3BA-DC3EC04F0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22363-D3EA-4D22-9365-6121C1ADF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68AA5-73FE-4D3B-9DC3-758C79789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07956-0F51-4D3A-98E8-FA139C4F3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661BB-96F7-4AB1-BC27-DC3C8D896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67805-B3BC-40AA-97E7-DBC242E96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7EF87-19C4-4ABB-A47F-3DDA6CAAF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B9F21-75F1-41F2-927E-18A9EAD1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4A383-BEF4-4F1D-A1F3-D05014FC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BECB3-AB36-4060-B824-FCE21F09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D98F-73D3-4D7D-98E0-0E1D09A8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19ACB-B5EB-4AEB-A903-81A7C9E04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C23D3-D879-4A8F-82BC-6977AEEDE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5D875-F706-44A9-8AA5-F4C7248B9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113E40-B7A6-4DC4-A5BA-EAD9203FD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51914-5351-43C9-8773-5BE7E5B5A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03A10E-1399-4282-801D-A6189B495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40B48-25E0-44B3-AB99-068F909FE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5D3B8-8123-43DC-B2BF-E7267A716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92A82D-1B65-4434-9C2A-DDBAEBF60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E3621-CFC2-4962-9AA4-3ED7F639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46E8-A575-4712-BE58-59EE44CA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2091D7-E7E1-4E9B-91C5-7C0FF588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D7D5B-5B47-4C9A-827F-D94BFAAF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844FB7-8DFE-435A-A7FA-C9AABD441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079F7-B73B-4992-A662-1C2E063A1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FF6ED-DF95-4187-BB7C-6F42F588E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C7D2-2A13-4A20-A106-CB301E58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>
                <a:gd name="textAreaLeft" fmla="*/ 0 w 5543640"/>
                <a:gd name="textAreaRight" fmla="*/ 5544000 w 554364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>
                <a:gd name="textAreaLeft" fmla="*/ 0 w 3308400"/>
                <a:gd name="textAreaRight" fmla="*/ 3308760 w 330840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DFEDE-B4F3-428C-AA73-30A2992A0A5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C04B5-F645-482C-ABA7-84395CB8F83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>
              <a:gd name="textAreaLeft" fmla="*/ 0 w 2876400"/>
              <a:gd name="textAreaRight" fmla="*/ 2876760 w 287640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>
              <a:gd name="textAreaLeft" fmla="*/ 0 w 5545080"/>
              <a:gd name="textAreaRight" fmla="*/ 5545440 w 554508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>
              <a:gd name="textAreaLeft" fmla="*/ 0 w 5467320"/>
              <a:gd name="textAreaRight" fmla="*/ 5467680 w 546732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>
              <a:gd name="textAreaLeft" fmla="*/ 0 w 3306600"/>
              <a:gd name="textAreaRight" fmla="*/ 3306960 w 3306600"/>
              <a:gd name="textAreaTop" fmla="*/ 0 h 652680"/>
              <a:gd name="textAreaBottom" fmla="*/ 653040 h 652680"/>
            </a:gdLst>
            <a:ahLst/>
            <a:rect l="textAreaLeft" t="textAreaTop" r="textAreaRight" b="textAreaBottom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>
              <a:gd name="textAreaLeft" fmla="*/ 0 w 8723520"/>
              <a:gd name="textAreaRight" fmla="*/ 8723880 w 8723520"/>
              <a:gd name="textAreaTop" fmla="*/ 0 h 1328760"/>
              <a:gd name="textAreaBottom" fmla="*/ 1329120 h 1328760"/>
            </a:gdLst>
            <a:ahLst/>
            <a:rect l="textAreaLeft" t="textAreaTop" r="textAreaRight" b="textAreaBottom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725E5-51A4-4B35-99FA-34A8A2E5329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custGeom>
              <a:avLst/>
              <a:gdLst>
                <a:gd name="textAreaLeft" fmla="*/ 0 w 5543640"/>
                <a:gd name="textAreaRight" fmla="*/ 5544000 w 554364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custGeom>
              <a:avLst/>
              <a:gdLst>
                <a:gd name="textAreaLeft" fmla="*/ 0 w 3308400"/>
                <a:gd name="textAreaRight" fmla="*/ 3308760 w 330840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24908-B295-42B9-B31E-A77095D5861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DF23B-E2BE-4439-86E6-4A0504AD407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FD349-C1D9-4CFA-9D10-32128E53129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F9AD3-F17F-4DC8-8127-A69EA395286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ffff"/>
                </a:solidFill>
                <a:latin typeface="Candara"/>
              </a:rPr>
              <a:t>Матур итеп елмайдык та, дәресне башлыйбыз.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Прямоугольник 1"/>
          <p:cNvSpPr/>
          <p:nvPr/>
        </p:nvSpPr>
        <p:spPr>
          <a:xfrm>
            <a:off x="900000" y="2136600"/>
            <a:ext cx="59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Ярдәмлек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үгәрәк саннан 1дистә алабыз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истәләр 1 гә ки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0 нан берәмлекләрне алабыз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алган дистәләрне һәм берәмлекләрне кушабыз да җавап язабыз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94920" y="1700280"/>
            <a:ext cx="4678200" cy="341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omic Sans MS"/>
              </a:rPr>
              <a:t>Математиканы, дуслар, 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Comic Sans MS"/>
              </a:rPr>
              <a:t>Яратмыйча һич ярамый.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Comic Sans MS"/>
              </a:rPr>
              <a:t>Бик төгәл фән,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Comic Sans MS"/>
              </a:rPr>
              <a:t>Бик кирәк фән,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Comic Sans MS"/>
              </a:rPr>
              <a:t>Бик кызык фән – 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Comic Sans MS"/>
              </a:rPr>
              <a:t>Бу  математика!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38" name="Picture 4" descr="school_clipart_student_blackboard"/>
          <p:cNvPicPr/>
          <p:nvPr/>
        </p:nvPicPr>
        <p:blipFill>
          <a:blip r:embed="rId1"/>
          <a:stretch/>
        </p:blipFill>
        <p:spPr>
          <a:xfrm>
            <a:off x="5724360" y="2637000"/>
            <a:ext cx="2184480" cy="29145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0080ff"/>
            </a:outerShdw>
          </a:effectLst>
        </p:spPr>
      </p:pic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    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а                 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                       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в                      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                                                             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с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а + в + с = 12( см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а = ?      в = ?       с = 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1" name="Прямая соединительная линия 4"/>
          <p:cNvSpPr/>
          <p:nvPr/>
        </p:nvSpPr>
        <p:spPr>
          <a:xfrm>
            <a:off x="1763640" y="3429000"/>
            <a:ext cx="1656000" cy="1079640"/>
          </a:xfrm>
          <a:prstGeom prst="line">
            <a:avLst/>
          </a:prstGeom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Прямая соединительная линия 6"/>
          <p:cNvSpPr/>
          <p:nvPr/>
        </p:nvSpPr>
        <p:spPr>
          <a:xfrm flipV="1">
            <a:off x="3419640" y="3644640"/>
            <a:ext cx="1223640" cy="863640"/>
          </a:xfrm>
          <a:prstGeom prst="line">
            <a:avLst/>
          </a:prstGeom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Прямая соединительная линия 8"/>
          <p:cNvSpPr/>
          <p:nvPr/>
        </p:nvSpPr>
        <p:spPr>
          <a:xfrm>
            <a:off x="4643280" y="3645000"/>
            <a:ext cx="1800360" cy="1368360"/>
          </a:xfrm>
          <a:prstGeom prst="line">
            <a:avLst/>
          </a:prstGeom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       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7 см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                                   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Р = ?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5 см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  см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6" name="Прямоугольный треугольник 4"/>
          <p:cNvSpPr/>
          <p:nvPr/>
        </p:nvSpPr>
        <p:spPr>
          <a:xfrm>
            <a:off x="1854360" y="3357720"/>
            <a:ext cx="1944360" cy="2135160"/>
          </a:xfrm>
          <a:prstGeom prst="rtTriangle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Прямоугольный треугольник 5"/>
          <p:cNvSpPr/>
          <p:nvPr/>
        </p:nvSpPr>
        <p:spPr>
          <a:xfrm>
            <a:off x="1933560" y="3957480"/>
            <a:ext cx="44640" cy="119160"/>
          </a:xfrm>
          <a:prstGeom prst="rtTriangle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Прямоугольник 1"/>
          <p:cNvSpPr/>
          <p:nvPr/>
        </p:nvSpPr>
        <p:spPr>
          <a:xfrm>
            <a:off x="971640" y="1844640"/>
            <a:ext cx="5761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30 – 7    төрендәге мисаллар чишәргә өйрәнү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5" descr="Счетные палочки"/>
          <p:cNvPicPr/>
          <p:nvPr/>
        </p:nvPicPr>
        <p:blipFill>
          <a:blip r:embed="rId1"/>
          <a:stretch/>
        </p:blipFill>
        <p:spPr>
          <a:xfrm>
            <a:off x="357120" y="404640"/>
            <a:ext cx="8358120" cy="59533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4" descr="Счет"/>
          <p:cNvPicPr/>
          <p:nvPr/>
        </p:nvPicPr>
        <p:blipFill>
          <a:blip r:embed="rId1"/>
          <a:stretch/>
        </p:blipFill>
        <p:spPr>
          <a:xfrm>
            <a:off x="179280" y="404640"/>
            <a:ext cx="8358120" cy="6013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Прямоугольник 1"/>
          <p:cNvSpPr/>
          <p:nvPr/>
        </p:nvSpPr>
        <p:spPr>
          <a:xfrm>
            <a:off x="324000" y="1285920"/>
            <a:ext cx="8462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30 = 20 + 10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30 -7= (20 + 10) – 7 =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20 + (10 – 7) =  20 + 3 = 23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70 - 5             100 -  4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80 -  4            100- 9   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1"/>
          <p:cNvSpPr/>
          <p:nvPr/>
        </p:nvSpPr>
        <p:spPr>
          <a:xfrm>
            <a:off x="1181160" y="1900440"/>
            <a:ext cx="7207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tt-RU" sz="2000" spc="-1" strike="noStrike">
                <a:solidFill>
                  <a:srgbClr val="000000"/>
                </a:solidFill>
                <a:latin typeface="Verdana"/>
              </a:rPr>
              <a:t>3” кә – карточка №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«4» кә – карточка №2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tt-RU" sz="2000" spc="-1" strike="noStrike">
                <a:solidFill>
                  <a:srgbClr val="000000"/>
                </a:solidFill>
                <a:latin typeface="Verdana"/>
              </a:rPr>
              <a:t>5” кә –( мәсьәлә чишәргә кирәк)карточка №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0000"/>
                </a:solidFill>
                <a:latin typeface="Verdana"/>
              </a:rPr>
              <a:t>Ә аннары комп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ь</a:t>
            </a:r>
            <a:r>
              <a:rPr b="1" lang="tt-RU" sz="2000" spc="-1" strike="noStrike">
                <a:solidFill>
                  <a:srgbClr val="000000"/>
                </a:solidFill>
                <a:latin typeface="Verdana"/>
              </a:rPr>
              <a:t>ютерда тест үтәргә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7:56:56Z</dcterms:created>
  <dc:creator>Олег</dc:creator>
  <dc:description/>
  <dc:language>en-US</dc:language>
  <cp:lastModifiedBy>Макаров</cp:lastModifiedBy>
  <dcterms:modified xsi:type="dcterms:W3CDTF">2011-11-25T02:15:05Z</dcterms:modified>
  <cp:revision>49</cp:revision>
  <dc:subject/>
  <dc:title>Приемы вычислений для случаев вида: 30-7</dc:title>
</cp:coreProperties>
</file>